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D0B4-858E-448A-8936-9C9071645DD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.::VMD: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4971-14B0-461D-8E7C-1CD5EF396B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.::VMD: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100-A946-426C-B58B-11F1D6C6A8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42E-7FCB-4335-A5E4-DA902BFE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4D9-D714-4D6A-B083-4E5F1353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570-D25F-48EA-93F5-9C1D0DB4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EE5-2B8E-4D59-8CAE-35B77FC6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FEC-69B6-446B-9F15-54AD96D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62E-AE73-414F-97C3-B44E22D0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F0C-8420-4B49-BFEA-C9D900E4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659-0261-4EC7-9A06-84E57F21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19E-05F8-4AA5-BB7B-C93EE86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EC2-17B4-44A8-9459-97F43A64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ED2-4EC7-4DB8-A6C1-50904286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682-50CB-4490-A857-91D87F1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119-CF56-40C5-A275-427BDA9F7C74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8704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413000"/>
            <a:ext cx="6696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80"/>
                </a:solidFill>
                <a:latin typeface="Century Gothic"/>
                <a:ea typeface="Times New Roman"/>
              </a:rPr>
              <a:t>LA COMUNICACIÓN EN UNA ORGANIZ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77040" y="4221000"/>
            <a:ext cx="363204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907920"/>
            <a:ext cx="70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nocer nuevos programas de gobierno donde se pueden presentar proyectos, saber qué concejal o funcionario tiene fondos disponi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nocer la opinión de los vecinos acerca de la organización y de la actuación de los distintos integra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aber qué tramites y planillas hay que llenar y cómo se h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nocer periodistas para difundir lo que se hace o denunci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8900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Gothic"/>
              </a:rPr>
              <a:t>Comunicación, Información y Po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8704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0464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Tener datos de otras organizaciones que pueden aportar recursos o profesionales para proyec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El conocimiento que nos da la información nos habilita para opinar, participar, criticar y deci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8704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4005360"/>
            <a:ext cx="345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e comparte y de está manera 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aumenta la democracia en la organiz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0464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a Comunicación puede se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Horizon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8704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221000"/>
            <a:ext cx="468144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entury Gothic"/>
              </a:rPr>
              <a:t>Es necesaria la comunicación horizontal para la organización , que todos se comuniquen con to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Flecha izquierda y derecha"/>
          <p:cNvSpPr/>
          <p:nvPr/>
        </p:nvSpPr>
        <p:spPr>
          <a:xfrm>
            <a:off x="2843280" y="1844640"/>
            <a:ext cx="1216080" cy="484200"/>
          </a:xfrm>
          <a:prstGeom prst="leftRightArrow">
            <a:avLst>
              <a:gd name="adj1" fmla="val 50000"/>
              <a:gd name="adj2" fmla="val 500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5 Flecha abajo"/>
          <p:cNvSpPr/>
          <p:nvPr/>
        </p:nvSpPr>
        <p:spPr>
          <a:xfrm>
            <a:off x="3203640" y="29242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0686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Vertic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entury Gothic"/>
              </a:rPr>
              <a:t>Estrategias y Planes de Comunic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¿Qué queremos que se conozca de nuestra organiza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¿Cómo queremos que sea vis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¿Qué mensajes queremos transmi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¿A quienes vamos a dirigir nuestros mensaj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¿Qué medios vamos a usar para lograr que nuestros mensajes lleguen a las personas, organizaciones, instituciones, público en gener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entury Gothic"/>
              </a:rPr>
              <a:t>Plan de Comun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bjetivos generales y espec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úblico o destinatarios (a quién nos dirigim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iagnóstico (qué pasa hoy, qué queremos cambi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Y un Plan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jará las activ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ir quienes van a ser los responsables de realizar cada 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lcular el Presupuesto (recursos necesarios costos y posibilida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onograma (cómo y cuándo se van hacer las activida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entury Gothic"/>
              </a:rPr>
              <a:t>Comunicación In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ol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oletines informativos. Periódicos escri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fiches en los lugares donde pasan los veci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visos o un programa de radio comunit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 periódico mural con las noticia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vitaciones i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vitaciones personales, casa por c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ambleas, reuniones informativas (pueden estar reglamentados), encuentros imprevis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íteres, Teatr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entury Gothic"/>
              </a:rPr>
              <a:t>Comunicación con otras organizaciones e institu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Con organizaciones que tienen similares características y objetivos (org. Comunitarias barriale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Con Instituciones y Organizaciones con actividades complementarias y servicios (org. Barrial con una congregación religiosa, o con el Estado a través del Secretario  del algún aérea del Municipio o del gobierno provinc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(Desarrollo social, Salu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Deporte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entury Gothic"/>
              </a:rPr>
              <a:t>Comunicación Ex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irigida hacia los usuarios de los servicios o hacia la sociedad en su conju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cia de los Medios de Comunicación Masiva (radios, televisión o diarios) para lograr “visibilidad públic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Plan de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s objetivos que se plant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quienes se quieren dirigir y con qué mens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 imagen de la organización que se quiere transmit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inculación con los periodistas y la evolución de lo actuado y de los resul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95280" y="33300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vocar a los medios con contactos directos y llamadas prev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viarles notas de prensa o gacetillas, en las que se indique claramente el lugar y la hora de las actividades que se pretendan difundir, el motivo y la importancia de las mis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lizar acciones llamativas pero simpáticas que no molesten a aquellos que quieran que los apoy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9280" y="714240"/>
            <a:ext cx="8507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¿Qué imagen quiere transmitir de su organizació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¿A quienes van a dirigir los mensaj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¿Qué medios van a usar para lograr transmitir esos mensaj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entury Gothic"/>
              </a:rPr>
              <a:t>                                           </a:t>
            </a:r>
            <a:r>
              <a:rPr b="1" lang="en-US" sz="20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Century Gothic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ctividad 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ctividad  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ctividad  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ctividad  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6 Conector recto"/>
          <p:cNvSpPr/>
          <p:nvPr/>
        </p:nvSpPr>
        <p:spPr>
          <a:xfrm flipH="1">
            <a:off x="1958760" y="2643120"/>
            <a:ext cx="20520" cy="35942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23 Conector recto"/>
          <p:cNvSpPr/>
          <p:nvPr/>
        </p:nvSpPr>
        <p:spPr>
          <a:xfrm>
            <a:off x="500040" y="3929040"/>
            <a:ext cx="792972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29 Conector recto"/>
          <p:cNvSpPr/>
          <p:nvPr/>
        </p:nvSpPr>
        <p:spPr>
          <a:xfrm>
            <a:off x="500040" y="4643280"/>
            <a:ext cx="792972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7 Conector recto"/>
          <p:cNvSpPr/>
          <p:nvPr/>
        </p:nvSpPr>
        <p:spPr>
          <a:xfrm>
            <a:off x="500040" y="5357880"/>
            <a:ext cx="78580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27813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263700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cursos necesarios y cos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7128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ron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6 Conector recto"/>
          <p:cNvSpPr/>
          <p:nvPr/>
        </p:nvSpPr>
        <p:spPr>
          <a:xfrm flipH="1">
            <a:off x="3830400" y="2643120"/>
            <a:ext cx="20520" cy="35942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6 Conector recto"/>
          <p:cNvSpPr/>
          <p:nvPr/>
        </p:nvSpPr>
        <p:spPr>
          <a:xfrm flipH="1">
            <a:off x="6856200" y="2571840"/>
            <a:ext cx="20520" cy="35938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23 Conector recto"/>
          <p:cNvSpPr/>
          <p:nvPr/>
        </p:nvSpPr>
        <p:spPr>
          <a:xfrm>
            <a:off x="468360" y="3284640"/>
            <a:ext cx="792936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0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Necesidades e Intereses  en comú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Trabajo compart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Planificación de 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Relaciones con otras organizaciones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instituciones y perso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*Análisis FO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Century Gothic"/>
              </a:rPr>
              <a:t>*Administ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2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80"/>
                </a:solidFill>
                <a:latin typeface="Century Gothic"/>
              </a:rPr>
              <a:t>¿QUÉ LOS UN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8704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438280" y="304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7215120" y="71424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3143160" y="4500720"/>
            <a:ext cx="285840" cy="1652400"/>
          </a:xfrm>
          <a:custGeom>
            <a:avLst/>
            <a:gdLst>
              <a:gd name="textAreaLeft" fmla="*/ 0 w 285840"/>
              <a:gd name="textAreaRight" fmla="*/ 103320 w 285840"/>
              <a:gd name="textAreaTop" fmla="*/ 63360 h 1652400"/>
              <a:gd name="textAreaBottom" fmla="*/ 158904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23"/>
                  <a:pt x="10800" y="2646"/>
                </a:cubicBezTo>
                <a:lnTo>
                  <a:pt x="10800" y="8154"/>
                </a:lnTo>
                <a:cubicBezTo>
                  <a:pt x="10800" y="9477"/>
                  <a:pt x="16200" y="10800"/>
                  <a:pt x="21600" y="10800"/>
                </a:cubicBezTo>
                <a:cubicBezTo>
                  <a:pt x="16200" y="10800"/>
                  <a:pt x="10800" y="12123"/>
                  <a:pt x="10800" y="13446"/>
                </a:cubicBezTo>
                <a:lnTo>
                  <a:pt x="10800" y="18954"/>
                </a:lnTo>
                <a:cubicBezTo>
                  <a:pt x="10800" y="2027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477120" y="38098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9 Rectángulo redondeado"/>
          <p:cNvSpPr/>
          <p:nvPr/>
        </p:nvSpPr>
        <p:spPr>
          <a:xfrm>
            <a:off x="571680" y="1643040"/>
            <a:ext cx="12855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º Perso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0 Rectángulo redondeado"/>
          <p:cNvSpPr/>
          <p:nvPr/>
        </p:nvSpPr>
        <p:spPr>
          <a:xfrm>
            <a:off x="2571840" y="1643040"/>
            <a:ext cx="12859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2° Mensaj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1 Rectángulo redondeado"/>
          <p:cNvSpPr/>
          <p:nvPr/>
        </p:nvSpPr>
        <p:spPr>
          <a:xfrm>
            <a:off x="4643280" y="1643040"/>
            <a:ext cx="10717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° Med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2 Rectángulo redondeado"/>
          <p:cNvSpPr/>
          <p:nvPr/>
        </p:nvSpPr>
        <p:spPr>
          <a:xfrm>
            <a:off x="6215040" y="857160"/>
            <a:ext cx="9288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Verb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3 Rectángulo redondeado"/>
          <p:cNvSpPr/>
          <p:nvPr/>
        </p:nvSpPr>
        <p:spPr>
          <a:xfrm>
            <a:off x="6215040" y="1357200"/>
            <a:ext cx="9288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scri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4 Rectángulo redondeado"/>
          <p:cNvSpPr/>
          <p:nvPr/>
        </p:nvSpPr>
        <p:spPr>
          <a:xfrm>
            <a:off x="6215040" y="1857240"/>
            <a:ext cx="9288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Visu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5 Rectángulo redondeado"/>
          <p:cNvSpPr/>
          <p:nvPr/>
        </p:nvSpPr>
        <p:spPr>
          <a:xfrm>
            <a:off x="6215040" y="2357280"/>
            <a:ext cx="9288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ís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9"/>
          <p:cNvSpPr/>
          <p:nvPr/>
        </p:nvSpPr>
        <p:spPr>
          <a:xfrm flipH="1">
            <a:off x="5857200" y="714240"/>
            <a:ext cx="304920" cy="2210040"/>
          </a:xfrm>
          <a:custGeom>
            <a:avLst/>
            <a:gdLst>
              <a:gd name="textAreaLeft" fmla="*/ -360 w 304920"/>
              <a:gd name="textAreaRight" fmla="*/ 10980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7 Rectángulo redondeado"/>
          <p:cNvSpPr/>
          <p:nvPr/>
        </p:nvSpPr>
        <p:spPr>
          <a:xfrm>
            <a:off x="7643880" y="1643040"/>
            <a:ext cx="10713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ana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8 Rectángulo redondeado"/>
          <p:cNvSpPr/>
          <p:nvPr/>
        </p:nvSpPr>
        <p:spPr>
          <a:xfrm>
            <a:off x="6429240" y="3143160"/>
            <a:ext cx="24289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rcos de Conduc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9 Rectángulo redondeado"/>
          <p:cNvSpPr/>
          <p:nvPr/>
        </p:nvSpPr>
        <p:spPr>
          <a:xfrm>
            <a:off x="6572160" y="3643200"/>
            <a:ext cx="21430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º Objetivo: lo q’ nos. Y los demás querem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40 Rectángulo redondeado" descr=""/>
          <p:cNvPicPr/>
          <p:nvPr/>
        </p:nvPicPr>
        <p:blipFill>
          <a:blip r:embed="rId1"/>
          <a:stretch/>
        </p:blipFill>
        <p:spPr>
          <a:xfrm>
            <a:off x="6516720" y="4175280"/>
            <a:ext cx="2255760" cy="682560"/>
          </a:xfrm>
          <a:prstGeom prst="rect">
            <a:avLst/>
          </a:prstGeom>
          <a:ln w="0">
            <a:noFill/>
          </a:ln>
        </p:spPr>
      </p:pic>
      <p:sp>
        <p:nvSpPr>
          <p:cNvPr id="73" name="41 Rectángulo redondeado"/>
          <p:cNvSpPr/>
          <p:nvPr/>
        </p:nvSpPr>
        <p:spPr>
          <a:xfrm>
            <a:off x="6572160" y="4857840"/>
            <a:ext cx="214308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3º Obtengo Result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42 Rectángulo redondeado"/>
          <p:cNvSpPr/>
          <p:nvPr/>
        </p:nvSpPr>
        <p:spPr>
          <a:xfrm>
            <a:off x="6572160" y="5286240"/>
            <a:ext cx="214308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4º Considero posibilid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43 Rectángulo redondeado"/>
          <p:cNvSpPr/>
          <p:nvPr/>
        </p:nvSpPr>
        <p:spPr>
          <a:xfrm>
            <a:off x="6572160" y="5715000"/>
            <a:ext cx="214308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5º Actitud curios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44 Rectángulo redondeado"/>
          <p:cNvSpPr/>
          <p:nvPr/>
        </p:nvSpPr>
        <p:spPr>
          <a:xfrm>
            <a:off x="500040" y="2786040"/>
            <a:ext cx="171468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imens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45 Rectángulo redondeado"/>
          <p:cNvSpPr/>
          <p:nvPr/>
        </p:nvSpPr>
        <p:spPr>
          <a:xfrm>
            <a:off x="1571760" y="3786120"/>
            <a:ext cx="10713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Inter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46 Rectángulo redondeado"/>
          <p:cNvSpPr/>
          <p:nvPr/>
        </p:nvSpPr>
        <p:spPr>
          <a:xfrm>
            <a:off x="214200" y="3786120"/>
            <a:ext cx="10717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ís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47 Rectángulo redondeado"/>
          <p:cNvSpPr/>
          <p:nvPr/>
        </p:nvSpPr>
        <p:spPr>
          <a:xfrm>
            <a:off x="1357200" y="4500720"/>
            <a:ext cx="15004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stados de animo E y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48 Rectángulo redondeado"/>
          <p:cNvSpPr/>
          <p:nvPr/>
        </p:nvSpPr>
        <p:spPr>
          <a:xfrm>
            <a:off x="1357200" y="5357880"/>
            <a:ext cx="15004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nsecuencia de su actitud y estilo de pensamie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50 Rectángulo redondeado"/>
          <p:cNvSpPr/>
          <p:nvPr/>
        </p:nvSpPr>
        <p:spPr>
          <a:xfrm>
            <a:off x="3786120" y="5000760"/>
            <a:ext cx="12146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iltro para interpre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52 Conector angular"/>
          <p:cNvCxnSpPr>
            <a:stCxn id="76" idx="2"/>
            <a:endCxn id="78" idx="0"/>
          </p:cNvCxnSpPr>
          <p:nvPr/>
        </p:nvCxnSpPr>
        <p:spPr>
          <a:xfrm rot="5400000">
            <a:off x="731160" y="3160440"/>
            <a:ext cx="643320" cy="608760"/>
          </a:xfrm>
          <a:prstGeom prst="bentConnector3">
            <a:avLst>
              <a:gd name="adj1" fmla="val 50000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83" name="55 Conector angular"/>
          <p:cNvCxnSpPr>
            <a:stCxn id="76" idx="2"/>
            <a:endCxn id="77" idx="0"/>
          </p:cNvCxnSpPr>
          <p:nvPr/>
        </p:nvCxnSpPr>
        <p:spPr>
          <a:xfrm flipH="1" rot="16200000">
            <a:off x="1410480" y="3089520"/>
            <a:ext cx="643320" cy="750240"/>
          </a:xfrm>
          <a:prstGeom prst="bentConnector3">
            <a:avLst>
              <a:gd name="adj1" fmla="val 50000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84" name="57 Conector angular"/>
          <p:cNvCxnSpPr>
            <a:stCxn id="77" idx="2"/>
            <a:endCxn id="79" idx="0"/>
          </p:cNvCxnSpPr>
          <p:nvPr/>
        </p:nvCxnSpPr>
        <p:spPr>
          <a:xfrm rot="5400000">
            <a:off x="1928160" y="4322880"/>
            <a:ext cx="357840" cy="2160"/>
          </a:xfrm>
          <a:prstGeom prst="bentConnector3">
            <a:avLst>
              <a:gd name="adj1" fmla="val 49949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85" name="59 Conector angular"/>
          <p:cNvCxnSpPr>
            <a:stCxn id="79" idx="2"/>
            <a:endCxn id="80" idx="0"/>
          </p:cNvCxnSpPr>
          <p:nvPr/>
        </p:nvCxnSpPr>
        <p:spPr>
          <a:xfrm rot="5400000">
            <a:off x="1928160" y="5180040"/>
            <a:ext cx="357840" cy="2160"/>
          </a:xfrm>
          <a:prstGeom prst="bentConnector3">
            <a:avLst>
              <a:gd name="adj1" fmla="val 49949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86" name="61 Conector angular"/>
          <p:cNvCxnSpPr>
            <a:stCxn id="81" idx="3"/>
            <a:endCxn id="74" idx="1"/>
          </p:cNvCxnSpPr>
          <p:nvPr/>
        </p:nvCxnSpPr>
        <p:spPr>
          <a:xfrm>
            <a:off x="5000400" y="5322600"/>
            <a:ext cx="1572120" cy="143640"/>
          </a:xfrm>
          <a:prstGeom prst="bentConnector3">
            <a:avLst>
              <a:gd name="adj1" fmla="val 50000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87" name="63 Conector angular"/>
          <p:cNvCxnSpPr>
            <a:stCxn id="81" idx="3"/>
            <a:endCxn id="75" idx="1"/>
          </p:cNvCxnSpPr>
          <p:nvPr/>
        </p:nvCxnSpPr>
        <p:spPr>
          <a:xfrm>
            <a:off x="5000400" y="5322600"/>
            <a:ext cx="1572120" cy="572040"/>
          </a:xfrm>
          <a:prstGeom prst="bentConnector3">
            <a:avLst>
              <a:gd name="adj1" fmla="val 50000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88" name="65 Conector angular"/>
          <p:cNvCxnSpPr>
            <a:stCxn id="81" idx="3"/>
            <a:endCxn id="73" idx="1"/>
          </p:cNvCxnSpPr>
          <p:nvPr/>
        </p:nvCxnSpPr>
        <p:spPr>
          <a:xfrm flipV="1">
            <a:off x="5000400" y="5036760"/>
            <a:ext cx="1572120" cy="286560"/>
          </a:xfrm>
          <a:prstGeom prst="bentConnector3">
            <a:avLst>
              <a:gd name="adj1" fmla="val 50000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89" name="67 Conector angular"/>
          <p:cNvCxnSpPr>
            <a:stCxn id="81" idx="3"/>
            <a:endCxn id="72" idx="1"/>
          </p:cNvCxnSpPr>
          <p:nvPr/>
        </p:nvCxnSpPr>
        <p:spPr>
          <a:xfrm flipV="1">
            <a:off x="5000400" y="4500360"/>
            <a:ext cx="1572120" cy="822960"/>
          </a:xfrm>
          <a:prstGeom prst="bentConnector3">
            <a:avLst>
              <a:gd name="adj1" fmla="val 50000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90" name="69 Conector angular"/>
          <p:cNvCxnSpPr>
            <a:stCxn id="81" idx="3"/>
            <a:endCxn id="71" idx="1"/>
          </p:cNvCxnSpPr>
          <p:nvPr/>
        </p:nvCxnSpPr>
        <p:spPr>
          <a:xfrm flipV="1">
            <a:off x="5000400" y="3893400"/>
            <a:ext cx="1572120" cy="1429560"/>
          </a:xfrm>
          <a:prstGeom prst="bentConnector3">
            <a:avLst>
              <a:gd name="adj1" fmla="val 50000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91" name="71 Conector angular"/>
          <p:cNvCxnSpPr>
            <a:stCxn id="62" idx="2"/>
            <a:endCxn id="81" idx="0"/>
          </p:cNvCxnSpPr>
          <p:nvPr/>
        </p:nvCxnSpPr>
        <p:spPr>
          <a:xfrm flipH="1" rot="16200000">
            <a:off x="2303280" y="2910960"/>
            <a:ext cx="3001320" cy="1178640"/>
          </a:xfrm>
          <a:prstGeom prst="bentConnector3">
            <a:avLst>
              <a:gd name="adj1" fmla="val 50000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sp>
        <p:nvSpPr>
          <p:cNvPr id="92" name="49 Rectángulo redondeado"/>
          <p:cNvSpPr/>
          <p:nvPr/>
        </p:nvSpPr>
        <p:spPr>
          <a:xfrm>
            <a:off x="1643040" y="785880"/>
            <a:ext cx="30002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triz de la Comunic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8 Rectángulo redondeado"/>
          <p:cNvSpPr/>
          <p:nvPr/>
        </p:nvSpPr>
        <p:spPr>
          <a:xfrm>
            <a:off x="2143080" y="1928880"/>
            <a:ext cx="14288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4º Contex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9 Rectángulo redondeado"/>
          <p:cNvSpPr/>
          <p:nvPr/>
        </p:nvSpPr>
        <p:spPr>
          <a:xfrm>
            <a:off x="5143680" y="1285920"/>
            <a:ext cx="9284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ís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10 Rectángulo redondeado"/>
          <p:cNvSpPr/>
          <p:nvPr/>
        </p:nvSpPr>
        <p:spPr>
          <a:xfrm>
            <a:off x="5143680" y="2571840"/>
            <a:ext cx="1143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No Fís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11 Rectángulo redondeado"/>
          <p:cNvSpPr/>
          <p:nvPr/>
        </p:nvSpPr>
        <p:spPr>
          <a:xfrm>
            <a:off x="2143080" y="4572000"/>
            <a:ext cx="192888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5º Marco Cult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12 Rectángulo redondeado"/>
          <p:cNvSpPr/>
          <p:nvPr/>
        </p:nvSpPr>
        <p:spPr>
          <a:xfrm>
            <a:off x="5143680" y="3786120"/>
            <a:ext cx="13572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reenc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13 Rectángulo redondeado"/>
          <p:cNvSpPr/>
          <p:nvPr/>
        </p:nvSpPr>
        <p:spPr>
          <a:xfrm>
            <a:off x="5143680" y="4286160"/>
            <a:ext cx="13572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4 Rectángulo redondeado"/>
          <p:cNvSpPr/>
          <p:nvPr/>
        </p:nvSpPr>
        <p:spPr>
          <a:xfrm>
            <a:off x="5143680" y="4786200"/>
            <a:ext cx="13572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rejui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5 Rectángulo redondeado"/>
          <p:cNvSpPr/>
          <p:nvPr/>
        </p:nvSpPr>
        <p:spPr>
          <a:xfrm>
            <a:off x="5143680" y="5286240"/>
            <a:ext cx="13572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9"/>
          <p:cNvSpPr/>
          <p:nvPr/>
        </p:nvSpPr>
        <p:spPr>
          <a:xfrm flipH="1">
            <a:off x="4500720" y="3643200"/>
            <a:ext cx="304560" cy="2210040"/>
          </a:xfrm>
          <a:custGeom>
            <a:avLst/>
            <a:gdLst>
              <a:gd name="textAreaLeft" fmla="*/ 360 w 304560"/>
              <a:gd name="textAreaRight" fmla="*/ 110160 w 30456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19 Conector angular"/>
          <p:cNvCxnSpPr>
            <a:stCxn id="93" idx="3"/>
            <a:endCxn id="94" idx="1"/>
          </p:cNvCxnSpPr>
          <p:nvPr/>
        </p:nvCxnSpPr>
        <p:spPr>
          <a:xfrm flipV="1">
            <a:off x="3571920" y="1463760"/>
            <a:ext cx="1572480" cy="643320"/>
          </a:xfrm>
          <a:prstGeom prst="bentConnector3">
            <a:avLst>
              <a:gd name="adj1" fmla="val 49988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103" name="22 Conector angular"/>
          <p:cNvCxnSpPr>
            <a:stCxn id="93" idx="3"/>
            <a:endCxn id="95" idx="1"/>
          </p:cNvCxnSpPr>
          <p:nvPr/>
        </p:nvCxnSpPr>
        <p:spPr>
          <a:xfrm>
            <a:off x="3571920" y="2106720"/>
            <a:ext cx="1572480" cy="643320"/>
          </a:xfrm>
          <a:prstGeom prst="bentConnector3">
            <a:avLst>
              <a:gd name="adj1" fmla="val 49988"/>
            </a:avLst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800080"/>
                </a:solidFill>
                <a:latin typeface="Century Gothic"/>
              </a:rPr>
              <a:t>ANÁLISIS FOD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0280" y="1125000"/>
            <a:ext cx="3394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Century Gothic"/>
              </a:rPr>
              <a:t>F   FORTALEZ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Capacidades distin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Ventajas natu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Recursos superi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907920"/>
            <a:ext cx="0" cy="547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1125360"/>
            <a:ext cx="439236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Century Gothic"/>
              </a:rPr>
              <a:t>O   OPORTUN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Cambios en el entorno social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político, económico, tecnológ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Nuevas tecnologías y procesos productiv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Necesidades insatisfechas de los usuar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716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3933720"/>
            <a:ext cx="439236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Century Gothic"/>
              </a:rPr>
              <a:t>A   AMENAZ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Resistencia al camb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Falta de interés o motivación de la pobl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Altos riesgos y grandes obstácul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33940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Century Gothic"/>
              </a:rPr>
              <a:t>D DEBI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alones de Aquile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Recursos y capacidades escas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800080"/>
                </a:solidFill>
                <a:latin typeface="Century Gothic"/>
              </a:rPr>
              <a:t>ANÁLISIS FOD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16000" y="909720"/>
            <a:ext cx="3816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800080"/>
                </a:solidFill>
                <a:uFillTx/>
                <a:latin typeface="Century Gothic"/>
              </a:rPr>
              <a:t>Las oportunidades</a:t>
            </a:r>
            <a:r>
              <a:rPr b="1" lang="es-AR" sz="1800" spc="-1" strike="noStrike">
                <a:solidFill>
                  <a:srgbClr val="800080"/>
                </a:solidFill>
                <a:latin typeface="Century Gothic"/>
              </a:rPr>
              <a:t> 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80"/>
                </a:solidFill>
                <a:latin typeface="Century Gothic"/>
              </a:rPr>
              <a:t>situaciones </a:t>
            </a: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o fact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socioeconómico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olíticos o culturales que est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uera de nuestro control, cu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articularidad es que 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actibles de ser aprovechados 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se cumplen determina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condiciones en el ámbito de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organiz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907920"/>
            <a:ext cx="0" cy="54738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3716280"/>
            <a:ext cx="835344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836640"/>
            <a:ext cx="417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1 Rectángulo"/>
          <p:cNvSpPr/>
          <p:nvPr/>
        </p:nvSpPr>
        <p:spPr>
          <a:xfrm>
            <a:off x="4675320" y="3860640"/>
            <a:ext cx="392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Century Gothic"/>
              </a:rPr>
              <a:t>Las </a:t>
            </a:r>
            <a:r>
              <a:rPr b="1" lang="en-US" sz="1800" spc="-1" strike="noStrike" u="sng">
                <a:solidFill>
                  <a:srgbClr val="800080"/>
                </a:solidFill>
                <a:uFillTx/>
                <a:latin typeface="Century Gothic"/>
              </a:rPr>
              <a:t>amenazas</a:t>
            </a:r>
            <a:r>
              <a:rPr b="1" lang="en-US" sz="1800" spc="-1" strike="noStrike">
                <a:solidFill>
                  <a:srgbClr val="800080"/>
                </a:solidFill>
                <a:latin typeface="Century Gothic"/>
              </a:rPr>
              <a:t> son aquellos factores externos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que están fuera de nuestro control y que podrí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erjudicar y/o limitar el desarrol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 la organizació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as amenazas son hechos  ocurridos en el entorno que representan riesgos para la organiz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1 Rectángulo"/>
          <p:cNvSpPr/>
          <p:nvPr/>
        </p:nvSpPr>
        <p:spPr>
          <a:xfrm>
            <a:off x="250920" y="1022400"/>
            <a:ext cx="392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Century Gothic"/>
              </a:rPr>
              <a:t>Las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entury Gothic"/>
              </a:rPr>
              <a:t> </a:t>
            </a:r>
            <a:r>
              <a:rPr b="1" lang="en-US" sz="1800" spc="-1" strike="noStrike" u="sng">
                <a:solidFill>
                  <a:srgbClr val="800080"/>
                </a:solidFill>
                <a:uFillTx/>
                <a:latin typeface="Century Gothic"/>
              </a:rPr>
              <a:t>fortalezas</a:t>
            </a:r>
            <a:r>
              <a:rPr b="1" lang="en-US" sz="1800" spc="-1" strike="noStrike">
                <a:solidFill>
                  <a:srgbClr val="800080"/>
                </a:solidFill>
                <a:latin typeface="Century Gothic"/>
              </a:rPr>
              <a:t> son las capacidades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umanas y materiales con las que cuenta la organización para adaptarse y aprovechar al máximo las ventajas que ofrece el entorno social y enfrentar con mayores posibilidades de éxito las posibles amenaz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2 Rectángulo"/>
          <p:cNvSpPr/>
          <p:nvPr/>
        </p:nvSpPr>
        <p:spPr>
          <a:xfrm>
            <a:off x="108000" y="386064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Century Gothic"/>
              </a:rPr>
              <a:t>Las debilidades</a:t>
            </a:r>
            <a:r>
              <a:rPr b="1" lang="en-US" sz="1800" spc="-1" strike="noStrike">
                <a:solidFill>
                  <a:srgbClr val="800080"/>
                </a:solidFill>
                <a:latin typeface="Century Gothic"/>
              </a:rPr>
              <a:t> son las limitacione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 carencias de habilidades, conocimientos, información, tecnología y recursos financieros 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dece la organización, y 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mpiden el aprovechamiento 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as oportunidades que ofrece 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torno social y que no le permi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fenderse de las amenaz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907920"/>
            <a:ext cx="849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¿Cuál es la imagen deseada? ¿Cómo vemos a la población con la cual trabajamos? Es decir, cuál es la situación futura deseada para nuestros usuarios o benefici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¿Cómo seremos en el futuro? ¿Cómo nos vemos en el futuro? Es decir, cuál será la posición futura de nuestra organización en relación a otras organiza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¿Qué haremos en el futuro? ¿Qué queremos hacer en el futuro? Cuáles son las contribuciones distintivas que queremos hacer en el futuro y/o cuáles son los principales proyectos o actividades que queremos desarrol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237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0" lang="es-AR" sz="24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1" lang="es-AR" sz="2400" spc="-1" strike="noStrike">
                <a:solidFill>
                  <a:srgbClr val="800080"/>
                </a:solidFill>
                <a:latin typeface="Century Gothic"/>
              </a:rPr>
              <a:t>VISIÓN: PREGUNTAS CL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8704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907920"/>
            <a:ext cx="849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Quiénes somos? Identidad y reconocimiento legal que otorga legitimidad a nuestra a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Qué buscamos? Las funciones principales de la organiz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Cambios fundamentales que deseamos lograr en el medio en el cual trabajamos. Razón de ser de la organiz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Por qué lo hacemos? Valores, principios y motivaciones de orden moral, religioso, político, social y cultu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Para quiénes trabajamos? Sectores sociales hacia los cuales se orientan principalmente nuestros esfuerz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237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1" lang="es-AR" sz="2400" spc="-1" strike="noStrike">
                <a:solidFill>
                  <a:srgbClr val="800080"/>
                </a:solidFill>
                <a:latin typeface="Century Gothic"/>
              </a:rPr>
              <a:t>LA MISIÓN: PREGUNTAS CL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8704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971640" y="907920"/>
            <a:ext cx="6553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907920"/>
            <a:ext cx="849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Cómo nos comunicamos: internamente, con nosotros mismos, con nuestros vecinos, con otras organizaciones e institucion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Qué medios utilizamo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Sabemos la diferencia entre comunicación e informació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48704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78400" y="4383000"/>
            <a:ext cx="3765600" cy="24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1:06:57Z</dcterms:created>
  <dc:creator>Maria Dilys Vales</dc:creator>
  <dc:description/>
  <dc:language>en-US</dc:language>
  <cp:lastModifiedBy>mibarbia</cp:lastModifiedBy>
  <dcterms:modified xsi:type="dcterms:W3CDTF">2011-05-05T14:00:25Z</dcterms:modified>
  <cp:revision>26</cp:revision>
  <dc:subject/>
  <dc:title>La comunicación en una ONG </dc:title>
</cp:coreProperties>
</file>